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2544F-3AC0-4647-A0CC-B43989DC88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0462B-F142-4ABC-83CB-247E5E682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alivary Gland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ree pairs secrete into oral cavit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ach pair has distinctive cellular organiza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nd produces saliva with different proper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alivary Gland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roduce 1.0–1.5 liters of saliva each da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l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99.4% wat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0.6% includ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ectrolytes (N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C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and H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600" spc="-1" strike="noStrike" baseline="4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ff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lycoproteins (muci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tibod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zym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aste produ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uscles of Mastication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ose the jaw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lide or rock lower jaw from side to side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hewing involves mandibula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levation and depress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rotraction and retrac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dial and lateral moveme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7D94A-AB84-495A-9D79-F75862642A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allo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called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glut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initiated voluntar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eds automatic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into three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uccal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haryngeal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sophageal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29544-306D-46BF-956C-17CC1FA315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gions of the Stomach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Cardi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Fundus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Body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Pylorus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tantly being replaced, covered thick mucus, same simple columnar epithel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yloric Sphincter – regulates gastric empty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astric Gla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 fundus and body of stomac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xtend deep into underlying lamina prop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gastric pit communicates with several gastric glan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arietal cell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hief cel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ietal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rete intrinsic factor and hydrochloric acid (HCl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ief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rete hydrochloric acid (HCl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re most abundant near base of gastric glan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rete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epsinoge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inactive proenzym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epsinog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s converted by HCl in the gastric lum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pepsin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(active proteolytic enzyme)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00863-5FDF-4F31-8725-4FDF9A067B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64E51-368E-462F-BF05-03C3A00449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ush Border Enzym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ral membrane prote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surfaces of intestinal microvill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down materials in contact with brush bord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stinal G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opeptid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brush border enzy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ates pancreatic proenzyme trypsinog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oendocrine cel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e intestinal hormones such as gastrin, cholecystokinin, and secret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uodenal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called submucosal glands or Brunner gla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 copious quantities of mu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chyme arrives from stom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551CC-9673-40BB-A41F-B1FA84B435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bolic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quire two essential ingredi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c molecules broken down by intracellular enzym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0"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, carbohydrates, fats, and prote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5E3E2-D67F-4414-B478-956877DC029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creatic Aci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ind poc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lined with simple cuboidal epitheliu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 scattered pancreatic isl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creatic Is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ocrine tissues of panc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ttered (1% of pancreatic cel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C5A23-CC6D-4085-86C4-F1FBEBC705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largest visceral organ (1.5 kg; 3.3 l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es in right hypochondriac and epigastric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ds to left hypochondriac and umbilical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s essential metabolic and synthe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the 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wrapped in tough fibrous caps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covered by visceral peritone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into lo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7D147-CDC3-44D7-996E-579D12697F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abolic Activities of the L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bohydrate metabol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pid metabol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o acid metabol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te product rem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tamin sto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eral sto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ug inact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27DE3-0B26-435E-AC9F-0BF0FA2F48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s damaged / old 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proteins: albumin – contrbutes to osmotic concen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bsorped Epinephrine, norepinephrine, insulin, thyroid &amp; steroid 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s antibodies and converts to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ps some lipid-soluble toxins (DDT) or breaks down and removes from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F29AD-B411-4612-9822-977E747870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le Duc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secretes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i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o a network of narrow channels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ile canalicul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opposing membranes of adjacent live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gh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Left Hepatic Duc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 bile from all bile ducts of liver lob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te to form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mon hepatic du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at leaves the 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le 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common hepatic duct to ei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mmon bile duct, which empties into duodenal ampu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ystic du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which leads to gallblad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mon Bile Duc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formed by union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1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stic 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1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hepatic 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es within the lesser omentum toward stom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etrates wall of duode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ets pancreatic duct at duodenal ampu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6936B-DA06-4285-B141-1178087AC6B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ology of the Gallblad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gallbladder contains 40–70 mL b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composition gradually changes in gallblad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salts and solutes become concent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EA91A-2838-45CA-968D-6DEAE350C2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cretin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released when chyme arrives in duoden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creases secretion of bile and buffers by liver and pancre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holecystokinin (CCK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secreted in duoden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When chyme contains lipids and partially digested protein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ccelerates pancreatic production and secretion of digestive enzy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laxes hepatopancreatic sphincter and gallbladd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jecting bile and pancreatic juice into duodenum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tric Inhibitory Peptide (GI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secreted when fats and carbohydrates enter small intesti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oactive Intestinal Peptide (V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imulates secretion of intestinal gland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ilates regional capillari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hibits acid production in stomac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tr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secreted by G cells in duoden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hen exposed to incompletely digested protein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omotes increased stomach motilit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imulates acids and enzyme produ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ocrin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released when chyme enters small intesti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imulates mucin production by submucosal glands of duoden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39892-08DE-4EC3-A1AE-70163BCDFC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cretin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released when chyme arrives in duoden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creases secretion of bile and buffers by liver and pancre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holecystokinin (CCK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secreted in duoden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When chyme contains lipids and partially digested protein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ccelerates pancreatic production and secretion of digestive enzy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laxes hepatopancreatic sphincter and gallbladd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jecting bile and pancreatic juice into duodenum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tric Inhibitory Peptide (GI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secreted when fats and carbohydrates enter small intesti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oactive Intestinal Peptide (V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imulates secretion of intestinal gland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ilates regional capillari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hibits acid production in stomac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tr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secreted by G cells in duoden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hen exposed to incompletely digested protein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omotes increased stomach motilit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imulates acids and enzyme produ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ocrin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released when chyme enters small intesti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imulates mucin production by submucosal glands of duoden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064BA-915A-4AA1-9D73-8DD0531C2A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the Large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bsorption of wa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ction  of intestinal contents into fe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 of important vitamins produced by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age of fecal material prior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fe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392E9C-2A47-4779-ABF0-5DF0ECAE14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033F2-005E-488C-B9D1-DD2741137C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ology of the Large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10% of nutrient absorption occurs in large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ares fecal material for ejection from the bod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28692-D0F4-493C-A01C-237AFC3390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rganic molecu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t as cofactors or coenzymes in metabo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bacteria in colon make three vitamins that supplement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D4A53-E6C7-482C-9077-9D7CA8B868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rganic molecu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t as cofactors or coenzymes in metabo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bacteria in colon make three vitamins that supplement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58F32-58A2-4352-AAEE-EAA2A06694B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ing and Absorption of Nutr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ks down physical structure of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assembles component molecu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lecules released into bloodstream 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sorbed by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ken down to provide energy for ATP syn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used to synthesize carbohydrates, proteins, and lip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E7A12-9E5F-41CC-A8E2-18CE365EFF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secre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ng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Digestive Enzym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ush border enzymes break nucleotides in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ous ba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F08F1-1B5D-46DF-9AD5-6588FA2942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toneal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produced by serous membrane l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essential lubr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tes parietal and visceral surf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sliding without friction or irr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679F2-2365-4EA8-9812-B1970854CE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Mucos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the inner lining of digestive trac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a mucous membrane consisting o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pithelium, moistened by glandular secre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amina propria of areolar tiss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gestive Epitheliu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cosal epithelium is simple or strat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ing on location, function, and stresses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ral cavity, pharynx, and esophagu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lnSpc>
                <a:spcPct val="120000"/>
              </a:lnSpc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cal stress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lnSpc>
                <a:spcPct val="120000"/>
              </a:lnSpc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ined by stratified squamous epitheliu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mach, small intestine, and most of large intestine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lnSpc>
                <a:spcPct val="120000"/>
              </a:lnSpc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lnSpc>
                <a:spcPct val="120000"/>
              </a:lnSpc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mple columnar epithelium with mucous (goblet) cel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Digestive Epitheli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nteroendocrine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cell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re scattered among columnar cells of digestive epitheli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crete hormones that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ordinate activities of the digestive tract and accessory gland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1A22E-859A-48B1-87CD-43F774D33A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staltic Mo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lar muscles contract behind bolu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le circular muscles ahead of bolus rela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itudinal muscles ahead of bolus contrac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ening adjacent seg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ve of contraction in circular musc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ces bolus forw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C749C-EE36-470E-8EEF-399818F048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5EB-59EF-45CD-B145-0997231E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157-2CB9-4122-A274-3A89560D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F41-25D9-4CDB-950D-EAACC2D2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A9CD-DC1A-492D-A56D-82C755BC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F134-FDF2-4773-A9AB-B6B2ED06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13F-C510-435E-8DFF-1A4DDEB6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9AB-2983-44B1-BDD7-B27A31B6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D5B4-8B46-4E48-B75D-1ED90980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6079-4AB7-40FD-B5ED-05E73EB1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0EF-6FA2-4398-B948-AE8ACB1A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5AE-5F85-4D3C-8C1B-90A963DF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120C-0D6E-428B-8AA1-2F12FB61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E1AE9-6610-4979-8D16-9DAAE4BF15B9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0CC75-8E7C-4225-8DC3-C42434AB56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gestive Syst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uman Anatomy &amp; Physiolog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iversity of Washington PM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unctions of Oral Cav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nsory analy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f material before swallow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chanical process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rough actions of teeth, tongue, and palatal surfac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ubric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xing with mucus and salivary gland secret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mited diges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f carbohydrates and lipid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4" descr="24_06Figureb-L"/>
          <p:cNvPicPr/>
          <p:nvPr/>
        </p:nvPicPr>
        <p:blipFill>
          <a:blip r:embed="rId1"/>
          <a:srcRect l="0" t="0" r="0" b="2678"/>
          <a:stretch/>
        </p:blipFill>
        <p:spPr>
          <a:xfrm>
            <a:off x="4803840" y="1600200"/>
            <a:ext cx="38829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sophagu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hollow muscular tub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bout 25 cm (10 in.) long and 2 cm (0.80 in.) wi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veys solid food and liquids to the stomac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egins posterior to cricoid cartilage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innervated by fibers from the esophageal plex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4" descr="24_11Figure_3-L"/>
          <p:cNvPicPr/>
          <p:nvPr/>
        </p:nvPicPr>
        <p:blipFill>
          <a:blip r:embed="rId1"/>
          <a:srcRect l="0" t="0" r="0" b="3753"/>
          <a:stretch/>
        </p:blipFill>
        <p:spPr>
          <a:xfrm>
            <a:off x="4495680" y="1600200"/>
            <a:ext cx="45720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omach Fun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jor Functions of the Stoma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orage of ingested f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chanical breakdown of ingested f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sruption of chemical bonds in food material by acid and enzym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duction of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intrinsic facto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, a glycoprotein required for absorption of vitamin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libri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in small intest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24_12Figureb_0-L"/>
          <p:cNvPicPr/>
          <p:nvPr/>
        </p:nvPicPr>
        <p:blipFill>
          <a:blip r:embed="rId1"/>
          <a:srcRect l="0" t="0" r="0" b="3548"/>
          <a:stretch/>
        </p:blipFill>
        <p:spPr>
          <a:xfrm>
            <a:off x="378000" y="1581120"/>
            <a:ext cx="8385120" cy="4492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astric Anatom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9240" y="274320"/>
            <a:ext cx="875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gestion in the Stomac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omach performs preliminary digestion of proteins by peps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ome digestion of carbohydrates (by salivary amylas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Lipids (by lingual lipas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omach cont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ecome more fluid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H approaches 2.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epsin activity increas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tein disassembly begi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though digestion occurs in the stomach, nutrients are not absorbed the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mall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90% of absorption occurs in the small intest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4" descr="24_16Figure-L"/>
          <p:cNvPicPr/>
          <p:nvPr/>
        </p:nvPicPr>
        <p:blipFill>
          <a:blip r:embed="rId1"/>
          <a:srcRect l="0" t="0" r="0" b="3392"/>
          <a:stretch/>
        </p:blipFill>
        <p:spPr>
          <a:xfrm>
            <a:off x="378000" y="2217600"/>
            <a:ext cx="8385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mall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Duodenu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segment of small intestine closest to stomac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 cm (10 in.) lo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xing bowl</a:t>
            </a:r>
            <a:r>
              <a:rPr b="0" lang="ja-JP" sz="2400" spc="-1" strike="noStrike">
                <a:solidFill>
                  <a:srgbClr val="ffffff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that receives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hym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from stomach and digestive secretions from pancreas and liv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nctions of the duodenum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 receive chyme from stomac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 neutralize acids before they can damage the absorptive surfaces of the small intesti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mall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Jejunu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the middle segment of small intest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.5 meters (8.2 ft) lo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the location of mo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hemical diges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utrient absorp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as few plicae circula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mall vill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mall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le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inal segment of small intest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.5 meters (11.48 ft) long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nds at the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leocecal valv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a sphincter that controls flow of material from the ileum into the large intest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mall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4" descr="24_17Figured-L"/>
          <p:cNvPicPr/>
          <p:nvPr/>
        </p:nvPicPr>
        <p:blipFill>
          <a:blip r:embed="rId1"/>
          <a:srcRect l="0" t="0" r="0" b="3957"/>
          <a:stretch/>
        </p:blipFill>
        <p:spPr>
          <a:xfrm>
            <a:off x="1163520" y="1339920"/>
            <a:ext cx="669132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gestive System Fun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quires nutrients from environ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abol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s raw materials to synthesize essential compoun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tabol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composes substances to provide energy cells need to fun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mall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stinal Secre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atery intestinal jui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.8 liters per day enter intestinal lume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oisten chym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ssist in buffering acid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Keep digestive enzymes and products of digestion in solu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stinal Move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hyme arrives in duodenu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eak peristaltic contractions move it slowly toward jejunu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Myenteric reflexes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Not under CNS control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Parasympathetic stimulation accelerates local peristalsis and segmentation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ncrea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880" y="1600200"/>
            <a:ext cx="413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Lies posterior to stomach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rom duodenum toward splee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s bound to posterior wall of abdominal cavit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s wrapped in thin, connective tissue capsul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unctions of the Pancrea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docrine cells of the pancreatic islets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Secrete insulin and glucagon into bloodstream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xocrine cells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Acinar cells and epithelial cells of duct system secrete </a:t>
            </a:r>
            <a:r>
              <a:rPr b="1" lang="en-US" sz="1700" spc="-1" strike="noStrike">
                <a:solidFill>
                  <a:srgbClr val="ffffff"/>
                </a:solidFill>
                <a:latin typeface="Calibri"/>
              </a:rPr>
              <a:t>pancreatic juice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4" descr="24_18Figurea-L"/>
          <p:cNvPicPr/>
          <p:nvPr/>
        </p:nvPicPr>
        <p:blipFill>
          <a:blip r:embed="rId1"/>
          <a:srcRect l="0" t="0" r="0" b="2849"/>
          <a:stretch/>
        </p:blipFill>
        <p:spPr>
          <a:xfrm>
            <a:off x="4275000" y="1600200"/>
            <a:ext cx="472464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ncrea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46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ancreatic Enzymes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Pancreatic alpha-amylas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 carbohydr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reaks down starch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imilar to salivary amylase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Pancreatic lipas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reaks down complex lipid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leases products (e.g., fatty acids) that are easily absorb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246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ancreatic Enzymes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5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Nuclease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reak down nucleic acids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5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Proteolytic enzyme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reak certain proteins apar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teases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break large protein complex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eptidases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break small peptides into amino acid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70% of all pancreatic enzyme produc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ecreted as inactive proenzym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tivated after reaching small intesti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7" descr="17194.jpg"/>
          <p:cNvPicPr/>
          <p:nvPr/>
        </p:nvPicPr>
        <p:blipFill>
          <a:blip r:embed="rId1"/>
          <a:stretch/>
        </p:blipFill>
        <p:spPr>
          <a:xfrm>
            <a:off x="1212840" y="4110120"/>
            <a:ext cx="34354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4" descr="24_19Figureb-L"/>
          <p:cNvPicPr/>
          <p:nvPr/>
        </p:nvPicPr>
        <p:blipFill>
          <a:blip r:embed="rId1"/>
          <a:srcRect l="0" t="0" r="0" b="4333"/>
          <a:stretch/>
        </p:blipFill>
        <p:spPr>
          <a:xfrm>
            <a:off x="1295280" y="1658880"/>
            <a:ext cx="67248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Hepatocy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e liver cel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just circulating levels of nutri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rough selective absorption and secre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a liver lobule form a series of irregular plates arranged like wheel spok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ny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Kupffer cell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(stellate reticuloendothelial cells) are located in sinusoidal lin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s blood flows through sinusoi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patocytes absorb solutes from plasm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secrete materials such as plasma protei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ver Fun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hysiology of the Liv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regul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matological regul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ile produ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3" descr="cirrhosis-liver.jpg"/>
          <p:cNvPicPr/>
          <p:nvPr/>
        </p:nvPicPr>
        <p:blipFill>
          <a:blip r:embed="rId1"/>
          <a:stretch/>
        </p:blipFill>
        <p:spPr>
          <a:xfrm>
            <a:off x="5372280" y="2990880"/>
            <a:ext cx="301752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ver Fun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abolic Regul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liver regulate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osition of circulating bl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utrient metabolism (carbohydrate, lipid &amp; amino acid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aste product remov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itamin Storage (A, D, E &amp; K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utrient storage (iron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ug inactiv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ver Fun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osition of Circulating Blood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l blood leaving absorptive surfaces of digestive tra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s hepatic portal syste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lows into the liv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ver cells extract nutrients or toxins from bl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efore they reach systemic circulation through hepatic vein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ver removes and stores excess nutri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rrects nutrient deficiencies by mobilizing stored reserves or performing synthetic activit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ver Fun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matological Regul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rgest blood reservoir in the bod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ceives 25% of cardiac outpu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unctions of Hematological Regulatio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hagocytosis and antigen present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ynthesis of plasma prote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oval of circulating hormon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oval of antibod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oval or storage of tox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ynthesis and secretion of bi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ver Fun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Functions of Bi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etary lipids are not water solu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chanical processing in stomach creates large drops containing lipid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ncreatic lipase is not lipid solu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teracts only at surface of lipid droplet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le salts break droplets apart (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emulsificatio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creases surface area exposed to enzymatic attack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reates tiny emulsion droplets coated with bile sal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gestive (GI) Tra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4" descr="24_01Figure_1-L"/>
          <p:cNvPicPr/>
          <p:nvPr/>
        </p:nvPicPr>
        <p:blipFill>
          <a:blip r:embed="rId1"/>
          <a:srcRect l="0" t="0" r="0" b="2778"/>
          <a:stretch/>
        </p:blipFill>
        <p:spPr>
          <a:xfrm>
            <a:off x="203040" y="1600200"/>
            <a:ext cx="4175280" cy="444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8" descr="24_01Figure_2-L"/>
          <p:cNvPicPr/>
          <p:nvPr/>
        </p:nvPicPr>
        <p:blipFill>
          <a:blip r:embed="rId2"/>
          <a:srcRect l="0" t="0" r="0" b="2586"/>
          <a:stretch/>
        </p:blipFill>
        <p:spPr>
          <a:xfrm>
            <a:off x="4572000" y="1600200"/>
            <a:ext cx="41148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4" descr="24_21Figurea-L"/>
          <p:cNvPicPr/>
          <p:nvPr/>
        </p:nvPicPr>
        <p:blipFill>
          <a:blip r:embed="rId1"/>
          <a:srcRect l="0" t="0" r="0" b="2833"/>
          <a:stretch/>
        </p:blipFill>
        <p:spPr>
          <a:xfrm>
            <a:off x="1216080" y="1566720"/>
            <a:ext cx="67086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allbladd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 a pear-shaped, muscular sa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ores and concentrates bile prior to excretion into small intest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 located in the fossa on the posterior surface of the liver</a:t>
            </a:r>
            <a:r>
              <a:rPr b="0" lang="ja-JP" sz="32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 right lob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ystic 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tends from gallbladd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ion with common hepatic duct forms common bile duc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allbladd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unctions of the Gallbladd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ores bi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leases bile into duodenum, but only under stimulation of hormone cholecystokinin (CCK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C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Hepatopancreatic sphincter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remains clos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ile exiting liver in common hepatic duct cannot flow through common bile duct into duodenum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ile enters cystic duct and is stored in gallbladde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ordination of Secretion &amp; Absorp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4" descr="24_22Figure-L"/>
          <p:cNvPicPr/>
          <p:nvPr/>
        </p:nvPicPr>
        <p:blipFill>
          <a:blip r:embed="rId1"/>
          <a:srcRect l="0" t="0" r="0" b="2302"/>
          <a:stretch/>
        </p:blipFill>
        <p:spPr>
          <a:xfrm>
            <a:off x="2457360" y="1117440"/>
            <a:ext cx="41896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ordination of Secretion &amp; Absorp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stinal Absorptio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t takes about 5 hours for material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pass from duodenum to end of ileu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vements of the mucosa increases absorptive effectiven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ir and mix intestinal cont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tantly change environment around epithelial cell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arge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s horseshoe shaped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xtends from end of ileum to anu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ies inferior to stomach and liv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rames the small intestin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so called large bowel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s about 1.5 meters (4.9 ft) long and 7.5 cm (3 in.) wi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arge Intestine Fun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2920" y="1600200"/>
            <a:ext cx="413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bsorption of water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action  of intestinal contents into fe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sorption of important vitamins produced by bacter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orage of fecal material prior to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fec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Picture 2" descr="cleanbowel.jpg"/>
          <p:cNvPicPr/>
          <p:nvPr/>
        </p:nvPicPr>
        <p:blipFill>
          <a:blip r:embed="rId1"/>
          <a:stretch/>
        </p:blipFill>
        <p:spPr>
          <a:xfrm>
            <a:off x="4543560" y="2387520"/>
            <a:ext cx="41432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ts of Large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32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Cecum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s an expanded pouch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ceives material arriving from the ileu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tores materials and begins compac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alibri"/>
              </a:rPr>
              <a:t>Appendix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so called vermiform appendix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s a slender, hollow appendage about 9 cm (3.6 in.) lo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s dominated by lymphoid nodules (a lymphoid orga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4" descr="24_23Figureb-L"/>
          <p:cNvPicPr/>
          <p:nvPr/>
        </p:nvPicPr>
        <p:blipFill>
          <a:blip r:embed="rId1"/>
          <a:srcRect l="0" t="0" r="0" b="4490"/>
          <a:stretch/>
        </p:blipFill>
        <p:spPr>
          <a:xfrm>
            <a:off x="4630680" y="2160720"/>
            <a:ext cx="421164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ts of Large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ol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s a larger diameter and thinner wall than small intestine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wall of the col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ms a series of pouches (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austra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ustra permit expansion and elongation of col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ts of Col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Ascending Colon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egins at superior border of cecum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scends along right lateral and posterior wall of peritoneal cavity to inferior surface of the liver and bends at </a:t>
            </a: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right colic flexure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(hepatic flexur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Transverse Col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rosses abdomen from right to left; turns at </a:t>
            </a: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left colic flexure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(splenic flexur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s supported by transverse mesocol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s separated from anterior abdominal wall by greater omentu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tions of Digestive (GI) Tra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ges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ccurs when material enters via the mouth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chanical Processing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rushing / Shearing – makes material easier to move through the trac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iges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hemical breakdown of food into small organic compounds for absorp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re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lease of water acids, buffers, enzymes &amp; salts by epithelium of GI tract and glandular orga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bsorp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ovement of organic substrates, electrolytes, vitamins &amp; water across digestive epitheliu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Excre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oval of waste products from body fluid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ts of Col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Descending Col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ceeds inferiorly along left side to the iliac fossa (inner surface of left ilium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retroperitoneal, firmly attached to abdominal wall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Sigmoid Col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an S-shaped segment, about 15 cm (6 in.) lo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rts at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igmoid flex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es posterior to urinary bladd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suspended from sigmoid mesocol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mpties into rectu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ts of Col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3" name="Picture 6" descr="19220.jpg"/>
          <p:cNvPicPr/>
          <p:nvPr/>
        </p:nvPicPr>
        <p:blipFill>
          <a:blip r:embed="rId1"/>
          <a:stretch/>
        </p:blipFill>
        <p:spPr>
          <a:xfrm>
            <a:off x="1566720" y="1397160"/>
            <a:ext cx="605340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ts of Large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600200"/>
            <a:ext cx="424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The Rectum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Forms last 15 cm (6 in.) of digestive tract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Is an expandable organ for temporary storage of feces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Movement of fecal material into rectum triggers urge to defecate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nal cana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is the last portion of the rectu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Contains small longitudinal folds called </a:t>
            </a: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anal columns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Anus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Also called anal orifice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Is exit of the anal canal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Has keratinized epidermis like skin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5" descr="24_23Figurec-L"/>
          <p:cNvPicPr/>
          <p:nvPr/>
        </p:nvPicPr>
        <p:blipFill>
          <a:blip r:embed="rId1"/>
          <a:srcRect l="0" t="0" r="0" b="3326"/>
          <a:stretch/>
        </p:blipFill>
        <p:spPr>
          <a:xfrm>
            <a:off x="4699080" y="1903320"/>
            <a:ext cx="4327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ysiology of the Large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sorption in the Large Intest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bsorption of water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bsorption of bile sal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the cecum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nsported in blood to liv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sorption of vitamins produced by bacter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sorption of organic was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ysiology of the Large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ree Vitamins Produced in the Large Intestin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itamin K (fat soluble)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quired by liver for synthesizing four clotting factors, including prothrombi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 startAt="2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otin (water soluble)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mportant in glucose metabolis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 startAt="3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ntothenic acid: B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Calibri"/>
              </a:rPr>
              <a:t>5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water soluble)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quired in manufacture of steroid hormones and some neurotransmitt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ysiology of the Large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rganic Wastes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acteria convert bilirubin to urobilinogens and stercobilinoge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acteria break down peptides in feces and generat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mmonia, Indole &amp; skatole, hydrogen sulfid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acteria feed on indigestible carbohydrates (complex polysaccharides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duce </a:t>
            </a: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flatus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, or intestinal gas, in large intestin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vements of the Large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astroileal &amp; gastroenteric reflex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ove materials into cecum while you eat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ovement from cecum to transverse colon is very slow, allowing hours for water absorption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eristaltic waves move material along length of colon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Segmentation movements (</a:t>
            </a: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haustral churning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) mix contents of adjacent haustra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vements from transverse colon through rest of large intestine results from powerful peristaltic contractions (mass movement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imulus is distension of stomach and duodenum; relayed over intestinal nerve plexus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stension of the rectal wall triggers defecation refle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wo positive feedback loop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oth loops triggered by stretch receptors in rectu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ges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gestive system handles each nutrient different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rge organic molecu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ust be digested before absorption can occu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ater, electrolytes, and vitami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n be absorbed without process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y require special transpor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ges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gestive Enzym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reak molecular bonds in large organic molecu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arbohydrates, proteins, lipids, and nucleic acid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 a process called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hydrolys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e divided into classes by targe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arbohydrases break bonds between simple suga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teases break bonds between amino acid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ipases separate fatty acids from glycerid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ges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ater Absorp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ells cannot actively absorb or secrete wat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l movement of water across lining of digestive tra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volves passive water flow down osmotic gradient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4" descr="24_27Figure_0-L"/>
          <p:cNvPicPr/>
          <p:nvPr/>
        </p:nvPicPr>
        <p:blipFill>
          <a:blip r:embed="rId1"/>
          <a:srcRect l="0" t="0" r="0" b="2220"/>
          <a:stretch/>
        </p:blipFill>
        <p:spPr>
          <a:xfrm>
            <a:off x="6029280" y="1600200"/>
            <a:ext cx="26575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gestive (GI) Tra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Digestive Organs and the Peritone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ned with serous membrane consisting o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perficial mesothelium covering a layer of areolar tiss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rosa, or visceral peritoneum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vers organs within peritoneal cav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ietal peritoneum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ines inner surfaces of body wal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Rescue 1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4_02Figureb-L"/>
          <p:cNvPicPr/>
          <p:nvPr/>
        </p:nvPicPr>
        <p:blipFill>
          <a:blip r:embed="rId1"/>
          <a:srcRect l="0" t="0" r="0" b="2373"/>
          <a:stretch/>
        </p:blipFill>
        <p:spPr>
          <a:xfrm>
            <a:off x="773280" y="474840"/>
            <a:ext cx="7751520" cy="57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istological Structure of the Digestive (GI) Trac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4" descr="24_03Figure_0-L"/>
          <p:cNvPicPr/>
          <p:nvPr/>
        </p:nvPicPr>
        <p:blipFill>
          <a:blip r:embed="rId1"/>
          <a:srcRect l="0" t="0" r="0" b="3255"/>
          <a:stretch/>
        </p:blipFill>
        <p:spPr>
          <a:xfrm>
            <a:off x="1440" y="1579680"/>
            <a:ext cx="914256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vement of Digestive Materi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 muscular layers of digestive tra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 of visceral smooth musc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ong digestive tract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as rhythmic cycles of activities (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ERISTALSI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nsists of waves of muscular contract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ove a bolus along the length of the tr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trolled by pacesetter cel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urrounding the lumen of the tr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ells undergo spontaneous depolariz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riggering wave of contraction through entire muscular she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stal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4" descr="24_04Figure_1-L"/>
          <p:cNvPicPr/>
          <p:nvPr/>
        </p:nvPicPr>
        <p:blipFill>
          <a:blip r:embed="rId1"/>
          <a:srcRect l="0" t="0" r="0" b="6000"/>
          <a:stretch/>
        </p:blipFill>
        <p:spPr>
          <a:xfrm>
            <a:off x="149400" y="1417680"/>
            <a:ext cx="4727520" cy="199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24_04Figure_2-L"/>
          <p:cNvPicPr/>
          <p:nvPr/>
        </p:nvPicPr>
        <p:blipFill>
          <a:blip r:embed="rId2"/>
          <a:srcRect l="0" t="0" r="0" b="4660"/>
          <a:stretch/>
        </p:blipFill>
        <p:spPr>
          <a:xfrm>
            <a:off x="149400" y="3535200"/>
            <a:ext cx="4727520" cy="207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24_04Figure_4-L"/>
          <p:cNvPicPr/>
          <p:nvPr/>
        </p:nvPicPr>
        <p:blipFill>
          <a:blip r:embed="rId3"/>
          <a:srcRect l="0" t="0" r="0" b="5789"/>
          <a:stretch/>
        </p:blipFill>
        <p:spPr>
          <a:xfrm>
            <a:off x="4265640" y="3556080"/>
            <a:ext cx="4878360" cy="2065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24_04Figure_3-L"/>
          <p:cNvPicPr/>
          <p:nvPr/>
        </p:nvPicPr>
        <p:blipFill>
          <a:blip r:embed="rId4"/>
          <a:srcRect l="0" t="0" r="0" b="5789"/>
          <a:stretch/>
        </p:blipFill>
        <p:spPr>
          <a:xfrm>
            <a:off x="4264200" y="1417680"/>
            <a:ext cx="4878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01:17:02Z</dcterms:created>
  <dc:creator>Keith Keller</dc:creator>
  <dc:description/>
  <dc:language>en-US</dc:language>
  <cp:lastModifiedBy>jimenahdez</cp:lastModifiedBy>
  <dcterms:modified xsi:type="dcterms:W3CDTF">2016-03-29T15:17:07Z</dcterms:modified>
  <cp:revision>8</cp:revision>
  <dc:subject/>
  <dc:title>Digestive System</dc:title>
</cp:coreProperties>
</file>